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246-C534-4C19-85F3-4949F3CD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723-57C8-4B41-A755-2F45D827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01CA-08A7-4B63-91B2-53917861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EAF-4322-4362-942C-3EF29D5A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4F1A-50C2-46E2-AA76-B0D98EBD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CDB7-C196-45FF-A2A9-533CD866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A434-EAE4-48B6-AF66-75D1957B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5F3F-BBF9-4E97-B334-FD58853A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C34A-0E32-403C-AD3D-AF06A4BE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F8F3-CC15-40B6-B142-C381C606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5DE3-6747-422D-BFDC-A3C39F97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B40-1EF2-4C06-A2C9-EFFDD7EF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31C1-9B08-49CA-B0D0-3A613694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DAC4-EDA1-4F38-A335-743CF106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F4E8-A942-4F31-9BE3-E7C852C2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265C-5FD8-4A60-807B-8C545D04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609D-336C-4BD9-B489-0C7B9B10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BE0-B16A-4284-BA30-4A071411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CBF-67C4-4F59-B201-94C67D4C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570-08C4-46AA-B84F-B9E532EC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F075-F3A6-431C-B283-B9EC4C03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4CFC-FF6E-4F7D-A043-E45C924C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68F-38E7-4BAB-8793-96AF4ECC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BA2-2C50-40FA-BFDF-C12132B0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1C3E-D3AA-40CE-BA26-31B74D11BC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F631-DFBF-4906-AE9A-6A50B19E808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My cat.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97" descr="SP_A0264"/>
          <p:cNvPicPr/>
          <p:nvPr/>
        </p:nvPicPr>
        <p:blipFill>
          <a:blip r:embed="rId1"/>
          <a:stretch/>
        </p:blipFill>
        <p:spPr>
          <a:xfrm>
            <a:off x="1739880" y="1600200"/>
            <a:ext cx="5664240" cy="4530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1774800" y="2398680"/>
            <a:ext cx="2043000" cy="2067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3"/>
          <a:stretch/>
        </p:blipFill>
        <p:spPr>
          <a:xfrm>
            <a:off x="6249960" y="6072120"/>
            <a:ext cx="2894040" cy="785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2102010_004"/>
          <p:cNvPicPr/>
          <p:nvPr/>
        </p:nvPicPr>
        <p:blipFill>
          <a:blip r:embed="rId1"/>
          <a:stretch/>
        </p:blipFill>
        <p:spPr>
          <a:xfrm>
            <a:off x="2496960" y="1563840"/>
            <a:ext cx="4173840" cy="5294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7600" y="344160"/>
            <a:ext cx="8302680" cy="123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 have got a cat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is name is Chip.                 It is ten.      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is gre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23102010_018"/>
          <p:cNvPicPr/>
          <p:nvPr/>
        </p:nvPicPr>
        <p:blipFill>
          <a:blip r:embed="rId1"/>
          <a:stretch/>
        </p:blipFill>
        <p:spPr>
          <a:xfrm>
            <a:off x="776160" y="1079640"/>
            <a:ext cx="3935520" cy="5105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is funny and lazy.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is angry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5" descr="23102010_009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can ran and jump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can`t swim and s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6" descr="24102010_001"/>
          <p:cNvPicPr/>
          <p:nvPr/>
        </p:nvPicPr>
        <p:blipFill>
          <a:blip r:embed="rId1"/>
          <a:stretch/>
        </p:blipFill>
        <p:spPr>
          <a:xfrm>
            <a:off x="776160" y="1600200"/>
            <a:ext cx="3399120" cy="45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1523520"/>
            <a:ext cx="404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likes to sleep on the window-sill.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6" descr="21102010"/>
          <p:cNvPicPr/>
          <p:nvPr/>
        </p:nvPicPr>
        <p:blipFill>
          <a:blip r:embed="rId1"/>
          <a:stretch/>
        </p:blipFill>
        <p:spPr>
          <a:xfrm>
            <a:off x="5410080" y="167652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likes to eat meat and to drink  milk.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24102010_002"/>
          <p:cNvPicPr/>
          <p:nvPr/>
        </p:nvPicPr>
        <p:blipFill>
          <a:blip r:embed="rId1"/>
          <a:stretch/>
        </p:blipFill>
        <p:spPr>
          <a:xfrm>
            <a:off x="776160" y="1600200"/>
            <a:ext cx="3399120" cy="45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 like my Chip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14" descr="IMG_0004"/>
          <p:cNvPicPr/>
          <p:nvPr/>
        </p:nvPicPr>
        <p:blipFill>
          <a:blip r:embed="rId1"/>
          <a:stretch/>
        </p:blipFill>
        <p:spPr>
          <a:xfrm>
            <a:off x="1889280" y="2090880"/>
            <a:ext cx="5959440" cy="3941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18T11:33:5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